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24B-D2CA-4274-8D7C-DCE3129A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11B-E538-4D8F-87D8-0B20F05E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074-216F-497B-920A-D78AA491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534-2A5D-4AE4-A735-FBC4EE3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DC7-48A5-4E9D-A16F-12AB8589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2C9-DDE1-4676-9720-727E864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AAAC-0E35-473D-B615-6144FFB1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8ABE-75F0-4569-9AD4-D2CB736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2B3-569B-4614-A298-75E4676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9C2B-9E07-4408-AAE9-7FCED55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8A03-31C6-4E1A-9FC2-B1C446A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C0B-FE69-4895-8692-051317E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1E6F-7274-4AE1-8437-9D95119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DC6-143F-4E91-BADE-99150BA8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5E6-436F-42F0-95B0-F36C669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27D2-58B4-4E57-A483-27F9AA7C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6F16-E616-4D90-8D5A-CD91294F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005-5DF1-4C7A-9EAC-685B33F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437-209A-4EF7-ADE3-FF4D29FF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056-A5EB-4720-AAF8-5DFE4EA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7C5-D659-44E7-B1FB-D93CD34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6A2-173D-49F8-BC12-6C3EA36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412-68B8-4282-A5FB-97CD210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139-87CB-42B1-8C34-143CB2D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08CC-29BB-4E98-9237-1AD571A163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58D1-A364-4F78-B4F3-4A85616F9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899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0c28"/>
                </a:solidFill>
                <a:latin typeface="Arial Black"/>
              </a:rPr>
              <a:t>Ce consecin</a:t>
            </a:r>
            <a:r>
              <a:rPr b="1" lang="ro-RO" sz="4800" spc="-1" strike="noStrike">
                <a:solidFill>
                  <a:srgbClr val="fa0c28"/>
                </a:solidFill>
                <a:latin typeface="Arial Black"/>
              </a:rPr>
              <a:t>ţe are încălzirea globală</a:t>
            </a:r>
            <a:r>
              <a:rPr b="1" lang="en-US" sz="4800" spc="-1" strike="noStrike">
                <a:solidFill>
                  <a:srgbClr val="fa0c28"/>
                </a:solidFill>
                <a:latin typeface="Arial Black"/>
              </a:rPr>
              <a:t>?</a:t>
            </a:r>
            <a:endParaRPr b="1" lang="en-US" sz="4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049200"/>
            <a:ext cx="68421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Prezentare realizată de echi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Ecologi’tilor”  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formată di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uela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exandra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tian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şi Silv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u 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Clasa a XI-a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50920" y="100800"/>
            <a:ext cx="7705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ucruri pe care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zirea global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le-ar schimb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3480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rea barier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de cor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putea fi primul  di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tr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cosistem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ce s-ar distru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79280" y="3213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ea tropical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mazonian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 putea deveni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r-o zi d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0" descr="padurea tropicala amazoniana"/>
          <p:cNvPicPr/>
          <p:nvPr/>
        </p:nvPicPr>
        <p:blipFill>
          <a:blip r:embed="rId1"/>
          <a:stretch/>
        </p:blipFill>
        <p:spPr>
          <a:xfrm>
            <a:off x="395280" y="4149720"/>
            <a:ext cx="1766880" cy="2708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3780000" y="692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tul Sahara ar pute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verz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sahara"/>
          <p:cNvPicPr/>
          <p:nvPr/>
        </p:nvPicPr>
        <p:blipFill>
          <a:blip r:embed="rId2"/>
          <a:stretch/>
        </p:blipFill>
        <p:spPr>
          <a:xfrm>
            <a:off x="4500720" y="1125360"/>
            <a:ext cx="2447640" cy="179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414036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ragane devastato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4" descr="katrina"/>
          <p:cNvPicPr/>
          <p:nvPr/>
        </p:nvPicPr>
        <p:blipFill>
          <a:blip r:embed="rId3"/>
          <a:stretch/>
        </p:blipFill>
        <p:spPr>
          <a:xfrm>
            <a:off x="4500720" y="3716280"/>
            <a:ext cx="27511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barieracorali"/>
          <p:cNvPicPr/>
          <p:nvPr/>
        </p:nvPicPr>
        <p:blipFill>
          <a:blip r:embed="rId4"/>
          <a:stretch/>
        </p:blipFill>
        <p:spPr>
          <a:xfrm>
            <a:off x="250920" y="1555920"/>
            <a:ext cx="237636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ndra, o amint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Top 10 lucruri pe care incalzirea globala le-ar schimba (Poze)"/>
          <p:cNvPicPr/>
          <p:nvPr/>
        </p:nvPicPr>
        <p:blipFill>
          <a:blip r:embed="rId1"/>
          <a:stretch/>
        </p:blipFill>
        <p:spPr>
          <a:xfrm>
            <a:off x="179280" y="836640"/>
            <a:ext cx="3351240" cy="268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24000" y="3789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 putea exista animale de dimensiun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i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animale"/>
          <p:cNvPicPr/>
          <p:nvPr/>
        </p:nvPicPr>
        <p:blipFill>
          <a:blip r:embed="rId2"/>
          <a:stretch/>
        </p:blipFill>
        <p:spPr>
          <a:xfrm>
            <a:off x="250920" y="4581360"/>
            <a:ext cx="3168720" cy="1986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9"/>
          <p:cNvSpPr/>
          <p:nvPr/>
        </p:nvSpPr>
        <p:spPr>
          <a:xfrm>
            <a:off x="3708360" y="26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 jur de 2.000 de insule indoneziene ar putea dis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0" descr="insule indoneziene"/>
          <p:cNvPicPr/>
          <p:nvPr/>
        </p:nvPicPr>
        <p:blipFill>
          <a:blip r:embed="rId3"/>
          <a:stretch/>
        </p:blipFill>
        <p:spPr>
          <a:xfrm>
            <a:off x="5003640" y="907920"/>
            <a:ext cx="2373480" cy="2737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427640" y="39337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rorism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migr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e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 cr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2" descr="terorism"/>
          <p:cNvPicPr/>
          <p:nvPr/>
        </p:nvPicPr>
        <p:blipFill>
          <a:blip r:embed="rId4"/>
          <a:stretch/>
        </p:blipFill>
        <p:spPr>
          <a:xfrm>
            <a:off x="4859280" y="4508640"/>
            <a:ext cx="3168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24000" y="333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irea gh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ilor din Alp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alpi"/>
          <p:cNvPicPr/>
          <p:nvPr/>
        </p:nvPicPr>
        <p:blipFill>
          <a:blip r:embed="rId1"/>
          <a:stretch/>
        </p:blipFill>
        <p:spPr>
          <a:xfrm>
            <a:off x="539640" y="907920"/>
            <a:ext cx="2880000" cy="1805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4211640" y="33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io, Maldive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maldive"/>
          <p:cNvPicPr/>
          <p:nvPr/>
        </p:nvPicPr>
        <p:blipFill>
          <a:blip r:embed="rId2"/>
          <a:stretch/>
        </p:blipFill>
        <p:spPr>
          <a:xfrm>
            <a:off x="4427640" y="907920"/>
            <a:ext cx="2592360" cy="193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ritanicii au protestat înaintea întâlnirii de la Copenhaga"/>
          <p:cNvPicPr/>
          <p:nvPr/>
        </p:nvPicPr>
        <p:blipFill>
          <a:blip r:embed="rId3"/>
          <a:stretch/>
        </p:blipFill>
        <p:spPr>
          <a:xfrm>
            <a:off x="1332000" y="3201840"/>
            <a:ext cx="5688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8080"/>
                </a:solidFill>
                <a:latin typeface="Times New Roman"/>
              </a:rPr>
              <a:t>Cum ne putem salva planeta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0" name="Picture 5" descr="copaciartificiali"/>
          <p:cNvPicPr/>
          <p:nvPr/>
        </p:nvPicPr>
        <p:blipFill>
          <a:blip r:embed="rId1"/>
          <a:stretch/>
        </p:blipFill>
        <p:spPr>
          <a:xfrm>
            <a:off x="0" y="206064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generatoaredenori"/>
          <p:cNvPicPr/>
          <p:nvPr/>
        </p:nvPicPr>
        <p:blipFill>
          <a:blip r:embed="rId2"/>
          <a:stretch/>
        </p:blipFill>
        <p:spPr>
          <a:xfrm>
            <a:off x="4932360" y="2060640"/>
            <a:ext cx="3749760" cy="3141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4788000" y="6021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neratori de n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11280" y="58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cipiente cu alge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şi energii 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atei:Photovoltaik adlershof.jpg"/>
          <p:cNvPicPr/>
          <p:nvPr/>
        </p:nvPicPr>
        <p:blipFill>
          <a:blip r:embed="rId1"/>
          <a:stretch/>
        </p:blipFill>
        <p:spPr>
          <a:xfrm>
            <a:off x="0" y="0"/>
            <a:ext cx="487692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ile:Dreischluchtendamm hauptwall 2006.jpg"/>
          <p:cNvPicPr/>
          <p:nvPr/>
        </p:nvPicPr>
        <p:blipFill>
          <a:blip r:embed="rId2"/>
          <a:stretch/>
        </p:blipFill>
        <p:spPr>
          <a:xfrm>
            <a:off x="5003640" y="1698480"/>
            <a:ext cx="4140360" cy="2773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Energie curata printr-o metoda ingenioasa!"/>
          <p:cNvPicPr/>
          <p:nvPr/>
        </p:nvPicPr>
        <p:blipFill>
          <a:blip r:embed="rId3"/>
          <a:stretch/>
        </p:blipFill>
        <p:spPr>
          <a:xfrm>
            <a:off x="4356000" y="4486320"/>
            <a:ext cx="4788000" cy="237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SeaGen array artists impression"/>
          <p:cNvPicPr/>
          <p:nvPr/>
        </p:nvPicPr>
        <p:blipFill>
          <a:blip r:embed="rId4"/>
          <a:stretch/>
        </p:blipFill>
        <p:spPr>
          <a:xfrm>
            <a:off x="0" y="3854520"/>
            <a:ext cx="3529080" cy="3003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250920" y="314172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nergii nepolu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70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onservFuelGasBESign"/>
          <p:cNvPicPr/>
          <p:nvPr/>
        </p:nvPicPr>
        <p:blipFill>
          <a:blip r:embed="rId2"/>
          <a:stretch/>
        </p:blipFill>
        <p:spPr>
          <a:xfrm>
            <a:off x="4284720" y="2455920"/>
            <a:ext cx="4249800" cy="4249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68360" y="3933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Energia mareelor  şi combustibili altern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189000"/>
            <a:ext cx="871380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faturi pentru a reduce încălzirea globală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înlocuiţi becurile incandescente cu cele fluorescente (un pas la îndemâna tuturor!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creşterea ponderii energiilor  verzi (nepoluan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rea defrişări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paci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or ajuta la reducerea concentraţiei de dioxid de carbon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 atmosfera Pământului prin absorbţia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lui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geţ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u bicicleta sau pe jos în loc de a folosi vehicule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a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ie la poluarea aerulu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ţine aparatele electrice din casa sau birou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modul de aşteptare, deoarece utilizarea acestor apara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e consum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ergie electrică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ar şi atunci când în stand-b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n recurgerea la refolosirea si reciclarea salv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ă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cantitate semnificativă de energie şi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ilor prim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ârtie, sticle de plastic,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aluminiu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ţi salva peste 1000 kg de dioxid de carbon pe an reciclând doar jumatate din deşeurile menajere.</a:t>
            </a:r>
            <a:br>
              <a:rPr sz="2400"/>
            </a:b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ţi salva 550 kg de CO2 pe an dacă îţi reduci gunoiul cu 1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Acţiuni pentru a opri încălzirea globală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0" y="357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liceboboc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greenhouse.gov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liceboboc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greenhouse.gov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enicul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bir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928800" y="2786040"/>
            <a:ext cx="74293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dadalos.org/nachhaltigkeit_rom/grundkurs_4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apropo.ro/wow/top-10-lucruri-pe-care-incalzirea-globala-le-ar-schimba-poze-49547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ttp://www.buzzle.com/articles/effects-consequences-global-warming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greenblog.descopera.ro/tag/incalzire-global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http://www.marineturbines.com/21/techn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http://www.ecomagazin.r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fax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dn.md/index.php?view=viewarticle&amp;articleid=26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928800" y="21430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ro.wikipedia.org/wiki/Fi%C8%99ier:Instrumental_Temperature_Record_ro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260280"/>
            <a:ext cx="864216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at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ă  efecte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heţarii şi gheaţa polară se topesc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încălzirea oceanelor şi creşterea nivelului mărilor (reducerea supraf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uscatulu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ulele  mai  mici  sunt ameninţate) 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plificarea circuitului apelor la nivel global: la tropice se evaporă din ce în ce mai multă apă, care se transformă mai apoi în ploaie în emisfera nordic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ţinutul salin al Atlanticului de Nord scad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şi, astfel, transportul de căldură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căt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lfst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 Europa scade în intensitate şi se poate chiar întrerup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 sunt excluse schimbări climatice abrupte îndesirea evenimentelor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eorologice extreme: tornade, ploi torenţiale, inundaţii, secetă;</a:t>
            </a: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571680" y="357120"/>
            <a:ext cx="7286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întinderea deşerturilor (pierderi teritoriale, refugiaţi ecologici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dificarea vegetaţiei: suprafeţe uriaşe de pădure ar putea dispărea. Astfel s-ar elibera în atmosferă cantităţi uriaşe de dioxid de carbon, care ar accelera încă şi mai mult efectul de seră, conducând la o şi mai rapidă încălzire globală ("efect de seră galopant"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ncendii foresti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bile distrugeri masive ale stratului de ozon: se bănuieşte că încălzirea Pământului va duce la o răcire a stratosferei (parte a atmosferei, la o înălţime de 15–25 km), care va accelera procesul de distrugere al stratului de oz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14200" y="357120"/>
            <a:ext cx="842976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rea criosferei ,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ul permanent de gheata, care se reg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special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emisfera nord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top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treptat. Acest lucru cauzea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ar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 gaurilor, care pot afecta tot felul de structuri, 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el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 omen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ctarea s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uman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animale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ra s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umane, efectele sunt de natu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z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sih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c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ea nu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ui celor infecta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 paraz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rea pielii ,cancere cutanate,boli de ochi,s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a imuni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ea animalelor va presupune cheltuieli majore pentru rezolvarea problemelor veterinare nou ap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cheltuieli mari c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Instrumental_Temperature_Record_ro"/>
          <p:cNvPicPr/>
          <p:nvPr/>
        </p:nvPicPr>
        <p:blipFill>
          <a:blip r:embed="rId1"/>
          <a:stretch/>
        </p:blipFill>
        <p:spPr>
          <a:xfrm>
            <a:off x="3274920" y="0"/>
            <a:ext cx="5869080" cy="4403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Fișier:Recent Sea Level Rise ro.png"/>
          <p:cNvPicPr/>
          <p:nvPr/>
        </p:nvPicPr>
        <p:blipFill>
          <a:blip r:embed="rId2"/>
          <a:stretch/>
        </p:blipFill>
        <p:spPr>
          <a:xfrm>
            <a:off x="0" y="3591000"/>
            <a:ext cx="4643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m_2_resiz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50920" y="260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Reacţii  în lanţ ale efectului de se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35712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şertificarea afectează 25% din suprafaţa uscatului, 110 ţări şi circa 1 miliard de locuito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7494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755640" y="765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index2"/>
          <p:cNvPicPr/>
          <p:nvPr/>
        </p:nvPicPr>
        <p:blipFill>
          <a:blip r:embed="rId1"/>
          <a:stretch/>
        </p:blipFill>
        <p:spPr>
          <a:xfrm>
            <a:off x="0" y="0"/>
            <a:ext cx="3348000" cy="2523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video_121742681917710800_2_small"/>
          <p:cNvPicPr/>
          <p:nvPr/>
        </p:nvPicPr>
        <p:blipFill>
          <a:blip r:embed="rId2"/>
          <a:stretch/>
        </p:blipFill>
        <p:spPr>
          <a:xfrm>
            <a:off x="5791320" y="22050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Incendiu+padure"/>
          <p:cNvPicPr/>
          <p:nvPr/>
        </p:nvPicPr>
        <p:blipFill>
          <a:blip r:embed="rId3"/>
          <a:stretch/>
        </p:blipFill>
        <p:spPr>
          <a:xfrm>
            <a:off x="2268360" y="2492280"/>
            <a:ext cx="3953160" cy="244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seceta"/>
          <p:cNvPicPr/>
          <p:nvPr/>
        </p:nvPicPr>
        <p:blipFill>
          <a:blip r:embed="rId4"/>
          <a:stretch/>
        </p:blipFill>
        <p:spPr>
          <a:xfrm>
            <a:off x="5148360" y="0"/>
            <a:ext cx="3995640" cy="239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image_jpeg_part6"/>
          <p:cNvPicPr/>
          <p:nvPr/>
        </p:nvPicPr>
        <p:blipFill>
          <a:blip r:embed="rId5"/>
          <a:stretch/>
        </p:blipFill>
        <p:spPr>
          <a:xfrm>
            <a:off x="0" y="2492280"/>
            <a:ext cx="3348000" cy="250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hunger"/>
          <p:cNvPicPr/>
          <p:nvPr/>
        </p:nvPicPr>
        <p:blipFill>
          <a:blip r:embed="rId6"/>
          <a:stretch/>
        </p:blipFill>
        <p:spPr>
          <a:xfrm>
            <a:off x="2771640" y="0"/>
            <a:ext cx="3459240" cy="24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Marile migratii au nevoie de protectie"/>
          <p:cNvPicPr/>
          <p:nvPr/>
        </p:nvPicPr>
        <p:blipFill>
          <a:blip r:embed="rId7"/>
          <a:stretch/>
        </p:blipFill>
        <p:spPr>
          <a:xfrm>
            <a:off x="3276720" y="4819680"/>
            <a:ext cx="3492360" cy="203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microbuzele desertului"/>
          <p:cNvPicPr/>
          <p:nvPr/>
        </p:nvPicPr>
        <p:blipFill>
          <a:blip r:embed="rId8"/>
          <a:stretch/>
        </p:blipFill>
        <p:spPr>
          <a:xfrm>
            <a:off x="0" y="4724280"/>
            <a:ext cx="3276720" cy="2140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2"/>
          <p:cNvSpPr/>
          <p:nvPr/>
        </p:nvSpPr>
        <p:spPr>
          <a:xfrm>
            <a:off x="6804000" y="5300640"/>
            <a:ext cx="216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fecte 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ncălzirii global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[peisaj din groenlanda.png]"/>
          <p:cNvPicPr/>
          <p:nvPr/>
        </p:nvPicPr>
        <p:blipFill>
          <a:blip r:embed="rId1"/>
          <a:stretch/>
        </p:blipFill>
        <p:spPr>
          <a:xfrm>
            <a:off x="5796000" y="2349360"/>
            <a:ext cx="3348000" cy="217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"/>
          <p:cNvPicPr/>
          <p:nvPr/>
        </p:nvPicPr>
        <p:blipFill>
          <a:blip r:embed="rId2"/>
          <a:stretch/>
        </p:blipFill>
        <p:spPr>
          <a:xfrm>
            <a:off x="4572000" y="429264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katrina"/>
          <p:cNvPicPr/>
          <p:nvPr/>
        </p:nvPicPr>
        <p:blipFill>
          <a:blip r:embed="rId3"/>
          <a:stretch/>
        </p:blipFill>
        <p:spPr>
          <a:xfrm>
            <a:off x="4859280" y="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nundatii-pakistan-3-afp"/>
          <p:cNvPicPr/>
          <p:nvPr/>
        </p:nvPicPr>
        <p:blipFill>
          <a:blip r:embed="rId4"/>
          <a:stretch/>
        </p:blipFill>
        <p:spPr>
          <a:xfrm>
            <a:off x="0" y="0"/>
            <a:ext cx="3492360" cy="229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nundatii-pascani"/>
          <p:cNvPicPr/>
          <p:nvPr/>
        </p:nvPicPr>
        <p:blipFill>
          <a:blip r:embed="rId5"/>
          <a:stretch/>
        </p:blipFill>
        <p:spPr>
          <a:xfrm>
            <a:off x="2771640" y="1916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992_Andrews_1"/>
          <p:cNvPicPr/>
          <p:nvPr/>
        </p:nvPicPr>
        <p:blipFill>
          <a:blip r:embed="rId6"/>
          <a:stretch/>
        </p:blipFill>
        <p:spPr>
          <a:xfrm>
            <a:off x="735120" y="4286160"/>
            <a:ext cx="3867120" cy="25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&amp;Bcy;&amp;iecy;&amp;zcy; &amp;ocy;&amp;pcy;&amp;icy;&amp;scy;&amp;acy;&amp;ncy;&amp;icy;&amp;yacy;"/>
          <p:cNvPicPr/>
          <p:nvPr/>
        </p:nvPicPr>
        <p:blipFill>
          <a:blip r:embed="rId7"/>
          <a:stretch/>
        </p:blipFill>
        <p:spPr>
          <a:xfrm>
            <a:off x="0" y="2082960"/>
            <a:ext cx="27860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0:14:10Z</dcterms:created>
  <dc:creator>user</dc:creator>
  <dc:description/>
  <dc:language>en-US</dc:language>
  <cp:lastModifiedBy>HE</cp:lastModifiedBy>
  <dcterms:modified xsi:type="dcterms:W3CDTF">2010-12-21T07:05:50Z</dcterms:modified>
  <cp:revision>45</cp:revision>
  <dc:subject/>
  <dc:title>Cum să facem  o schimbare?</dc:title>
</cp:coreProperties>
</file>